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389-7340-47EC-B3FF-899E3410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D5B9-335D-48FB-962C-A7068618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C48-E4B1-4BEE-9AA8-E6BFB49B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0A8-7483-4690-99F2-3B425EFA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A6E8-BE72-4D08-B6FB-583FCB58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398D-BF11-4378-9F55-BB374360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D496-7478-4DA1-BD8B-3CDC28D7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F090-A9CC-46FF-A53E-720FCF13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6FE5-9ED7-43EE-9A4D-36F67C31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E888-F8DE-4B4B-89F5-8E03479C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37A6-46A3-4EED-8F63-E1D4ACE8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383-2D06-412A-899A-62BA047F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1E29-EA50-4A5D-80CC-C7C82625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44D3-FF73-4CB0-B88E-D8B9D739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7947-53CD-4B39-9DED-BFF095D4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3800-BFF1-4A0B-B4C2-024FB458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49C3-2FE0-4252-9172-3C5FBBEC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AE36-ADED-47BE-89CC-7BE8F506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A1F-FBC0-497D-9AB7-9E820046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1A3-0C98-4FDF-A24A-BE3FF391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010C-EFDB-4279-B61B-FEB9F50E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F38-0CB5-4627-90A2-ACF3B1B9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17B-3F45-4B8F-B19B-27D357B3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A72-606C-43FB-A5B2-E32D9A81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5D77-5E9F-4EA3-8340-FB98E6FE1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72E3-0A78-4CD5-8473-C256ECDB4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Sir, We Would See Jesus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9, Lesson 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36 - 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 1:21 – 2: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9CCE-A142-4D5C-8ABF-B8B7BFE14A3B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Jesus Eats With Sinners</a:t>
            </a:r>
            <a:br>
              <a:rPr sz="4000"/>
            </a:b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Mark 2:15-17; Matt. 9:10-13; Luke 5:29-32</a:t>
            </a: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thew holds a feast and invites Jesus and some public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harisees had a prob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harisees thought Jesus should not have any associations with publicans and sin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 saw it as an opportunity to influence the salvation of sin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healthy person has no need for a doc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647A-9E25-4906-87A6-57757CAB3DA1}" type="slidenum">
              <a:t>10</a:t>
            </a:fld>
          </a:p>
        </p:txBody>
      </p:sp>
    </p:spTree>
  </p:cSld>
  <p:transition>
    <p:random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The Problem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Jesus participating in sin and condoning it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Matthew holding a “feast”, or a “drinking party”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2209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3352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eas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A386-3FD1-4571-B348-FADB80BB55A0}" type="slidenum">
              <a:t>11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The Problem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nly criticism was that Jesus was eating with publicans and sin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us, it was not the act itself (eating) that was questionable to the Pharis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an issue of WHOM Jesus was eating wi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Jesus should never eat with sinners, would He have been able to eat with the Pharise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nly real problem was in the lack of mercy in the heart of the Pharis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9EC6-4C1E-4CDD-95C2-992656A45D3B}" type="slidenum">
              <a:t>12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From Last Lesson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fe of Chr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ginning Minis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Galilean Minis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led the nobleman’s 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jected at Nazare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ernaum – He returns there o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ostles Called - Peter, Andrew, James, and John to be fishers of 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8979-5959-41DB-9F3C-C4B6C4D54E09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11120" y="2236680"/>
            <a:ext cx="4464360" cy="4148280"/>
          </a:xfrm>
          <a:custGeom>
            <a:avLst/>
            <a:gdLst/>
            <a:ahLst/>
            <a:rect l="l" t="t" r="r" b="b"/>
            <a:pathLst>
              <a:path w="2812" h="2613">
                <a:moveTo>
                  <a:pt x="2784" y="357"/>
                </a:moveTo>
                <a:cubicBezTo>
                  <a:pt x="2713" y="322"/>
                  <a:pt x="2672" y="273"/>
                  <a:pt x="2601" y="242"/>
                </a:cubicBezTo>
                <a:cubicBezTo>
                  <a:pt x="2588" y="236"/>
                  <a:pt x="2576" y="228"/>
                  <a:pt x="2563" y="223"/>
                </a:cubicBezTo>
                <a:cubicBezTo>
                  <a:pt x="2544" y="216"/>
                  <a:pt x="2505" y="204"/>
                  <a:pt x="2505" y="204"/>
                </a:cubicBezTo>
                <a:cubicBezTo>
                  <a:pt x="2194" y="0"/>
                  <a:pt x="1612" y="184"/>
                  <a:pt x="1200" y="204"/>
                </a:cubicBezTo>
                <a:cubicBezTo>
                  <a:pt x="1090" y="221"/>
                  <a:pt x="980" y="257"/>
                  <a:pt x="873" y="290"/>
                </a:cubicBezTo>
                <a:cubicBezTo>
                  <a:pt x="836" y="314"/>
                  <a:pt x="797" y="317"/>
                  <a:pt x="758" y="338"/>
                </a:cubicBezTo>
                <a:cubicBezTo>
                  <a:pt x="704" y="367"/>
                  <a:pt x="659" y="407"/>
                  <a:pt x="604" y="434"/>
                </a:cubicBezTo>
                <a:cubicBezTo>
                  <a:pt x="540" y="498"/>
                  <a:pt x="568" y="463"/>
                  <a:pt x="518" y="540"/>
                </a:cubicBezTo>
                <a:cubicBezTo>
                  <a:pt x="509" y="553"/>
                  <a:pt x="491" y="558"/>
                  <a:pt x="480" y="569"/>
                </a:cubicBezTo>
                <a:cubicBezTo>
                  <a:pt x="465" y="583"/>
                  <a:pt x="453" y="600"/>
                  <a:pt x="441" y="617"/>
                </a:cubicBezTo>
                <a:cubicBezTo>
                  <a:pt x="377" y="704"/>
                  <a:pt x="328" y="814"/>
                  <a:pt x="288" y="914"/>
                </a:cubicBezTo>
                <a:cubicBezTo>
                  <a:pt x="273" y="999"/>
                  <a:pt x="253" y="1064"/>
                  <a:pt x="230" y="1145"/>
                </a:cubicBezTo>
                <a:cubicBezTo>
                  <a:pt x="224" y="1199"/>
                  <a:pt x="225" y="1255"/>
                  <a:pt x="211" y="1308"/>
                </a:cubicBezTo>
                <a:cubicBezTo>
                  <a:pt x="205" y="1330"/>
                  <a:pt x="185" y="1346"/>
                  <a:pt x="172" y="1365"/>
                </a:cubicBezTo>
                <a:cubicBezTo>
                  <a:pt x="166" y="1375"/>
                  <a:pt x="153" y="1394"/>
                  <a:pt x="153" y="1394"/>
                </a:cubicBezTo>
                <a:cubicBezTo>
                  <a:pt x="125" y="1523"/>
                  <a:pt x="59" y="1609"/>
                  <a:pt x="19" y="1730"/>
                </a:cubicBezTo>
                <a:cubicBezTo>
                  <a:pt x="25" y="1862"/>
                  <a:pt x="0" y="1911"/>
                  <a:pt x="57" y="1999"/>
                </a:cubicBezTo>
                <a:cubicBezTo>
                  <a:pt x="65" y="2046"/>
                  <a:pt x="64" y="2073"/>
                  <a:pt x="96" y="2105"/>
                </a:cubicBezTo>
                <a:cubicBezTo>
                  <a:pt x="119" y="2164"/>
                  <a:pt x="147" y="2223"/>
                  <a:pt x="192" y="2268"/>
                </a:cubicBezTo>
                <a:cubicBezTo>
                  <a:pt x="236" y="2359"/>
                  <a:pt x="258" y="2388"/>
                  <a:pt x="345" y="2441"/>
                </a:cubicBezTo>
                <a:cubicBezTo>
                  <a:pt x="367" y="2503"/>
                  <a:pt x="337" y="2440"/>
                  <a:pt x="384" y="2479"/>
                </a:cubicBezTo>
                <a:cubicBezTo>
                  <a:pt x="426" y="2513"/>
                  <a:pt x="377" y="2506"/>
                  <a:pt x="432" y="2527"/>
                </a:cubicBezTo>
                <a:cubicBezTo>
                  <a:pt x="463" y="2539"/>
                  <a:pt x="480" y="2532"/>
                  <a:pt x="508" y="2546"/>
                </a:cubicBezTo>
                <a:cubicBezTo>
                  <a:pt x="624" y="2604"/>
                  <a:pt x="661" y="2600"/>
                  <a:pt x="796" y="2613"/>
                </a:cubicBezTo>
                <a:cubicBezTo>
                  <a:pt x="991" y="2607"/>
                  <a:pt x="1187" y="2606"/>
                  <a:pt x="1382" y="2594"/>
                </a:cubicBezTo>
                <a:cubicBezTo>
                  <a:pt x="1453" y="2590"/>
                  <a:pt x="1499" y="2510"/>
                  <a:pt x="1564" y="2489"/>
                </a:cubicBezTo>
                <a:cubicBezTo>
                  <a:pt x="1593" y="2460"/>
                  <a:pt x="1628" y="2438"/>
                  <a:pt x="1660" y="2412"/>
                </a:cubicBezTo>
                <a:cubicBezTo>
                  <a:pt x="1702" y="2379"/>
                  <a:pt x="1733" y="2343"/>
                  <a:pt x="1785" y="2325"/>
                </a:cubicBezTo>
                <a:cubicBezTo>
                  <a:pt x="1847" y="2265"/>
                  <a:pt x="1928" y="2220"/>
                  <a:pt x="2006" y="2181"/>
                </a:cubicBezTo>
                <a:cubicBezTo>
                  <a:pt x="2065" y="2151"/>
                  <a:pt x="2113" y="2132"/>
                  <a:pt x="2160" y="2085"/>
                </a:cubicBezTo>
                <a:cubicBezTo>
                  <a:pt x="2163" y="2076"/>
                  <a:pt x="2164" y="2065"/>
                  <a:pt x="2169" y="2057"/>
                </a:cubicBezTo>
                <a:cubicBezTo>
                  <a:pt x="2174" y="2049"/>
                  <a:pt x="2184" y="2045"/>
                  <a:pt x="2188" y="2037"/>
                </a:cubicBezTo>
                <a:cubicBezTo>
                  <a:pt x="2195" y="2023"/>
                  <a:pt x="2210" y="1973"/>
                  <a:pt x="2217" y="1951"/>
                </a:cubicBezTo>
                <a:cubicBezTo>
                  <a:pt x="2220" y="1877"/>
                  <a:pt x="2210" y="1802"/>
                  <a:pt x="2227" y="1730"/>
                </a:cubicBezTo>
                <a:cubicBezTo>
                  <a:pt x="2233" y="1704"/>
                  <a:pt x="2265" y="1692"/>
                  <a:pt x="2284" y="1673"/>
                </a:cubicBezTo>
                <a:cubicBezTo>
                  <a:pt x="2291" y="1666"/>
                  <a:pt x="2304" y="1653"/>
                  <a:pt x="2304" y="1653"/>
                </a:cubicBezTo>
                <a:cubicBezTo>
                  <a:pt x="2327" y="1585"/>
                  <a:pt x="2312" y="1613"/>
                  <a:pt x="2342" y="1567"/>
                </a:cubicBezTo>
                <a:cubicBezTo>
                  <a:pt x="2356" y="1514"/>
                  <a:pt x="2369" y="1458"/>
                  <a:pt x="2400" y="1413"/>
                </a:cubicBezTo>
                <a:cubicBezTo>
                  <a:pt x="2429" y="1327"/>
                  <a:pt x="2463" y="1242"/>
                  <a:pt x="2486" y="1154"/>
                </a:cubicBezTo>
                <a:cubicBezTo>
                  <a:pt x="2497" y="1111"/>
                  <a:pt x="2503" y="1062"/>
                  <a:pt x="2534" y="1029"/>
                </a:cubicBezTo>
                <a:cubicBezTo>
                  <a:pt x="2544" y="991"/>
                  <a:pt x="2550" y="938"/>
                  <a:pt x="2572" y="905"/>
                </a:cubicBezTo>
                <a:cubicBezTo>
                  <a:pt x="2585" y="886"/>
                  <a:pt x="2611" y="847"/>
                  <a:pt x="2611" y="847"/>
                </a:cubicBezTo>
                <a:cubicBezTo>
                  <a:pt x="2623" y="809"/>
                  <a:pt x="2635" y="792"/>
                  <a:pt x="2668" y="770"/>
                </a:cubicBezTo>
                <a:cubicBezTo>
                  <a:pt x="2682" y="729"/>
                  <a:pt x="2707" y="694"/>
                  <a:pt x="2726" y="655"/>
                </a:cubicBezTo>
                <a:cubicBezTo>
                  <a:pt x="2747" y="613"/>
                  <a:pt x="2742" y="601"/>
                  <a:pt x="2774" y="559"/>
                </a:cubicBezTo>
                <a:cubicBezTo>
                  <a:pt x="2787" y="521"/>
                  <a:pt x="2800" y="483"/>
                  <a:pt x="2812" y="444"/>
                </a:cubicBezTo>
                <a:cubicBezTo>
                  <a:pt x="2791" y="370"/>
                  <a:pt x="2803" y="398"/>
                  <a:pt x="2784" y="357"/>
                </a:cubicBez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57400" y="304920"/>
            <a:ext cx="4800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rea of Galile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8266320" y="632448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88DE-7E0B-4FA4-8E99-ACDD78A5D19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6019560" y="3809880"/>
            <a:ext cx="160020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61A-0862-4A57-92F9-5AAD73A41DBD}" type="slidenum">
              <a:t>3</a:t>
            </a:fld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Jesus Casts Out Demons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 Mark 1:21-28; Luke 4:31-37</a:t>
            </a: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taught in the synagog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power over the demoniac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orment of the possessed 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cknowledgement by the de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manding power of Je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mazement of the crow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fame spread all around Galil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B467-EDF0-49E5-93AB-343C04C6CDE8}" type="slidenum">
              <a:t>4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Jesus Heals Simon’s Mother-in-law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 Mark 1:29-34; Matt. 8:14-17; Luke 4:38-41</a:t>
            </a: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went to Simon and Andrew’s ho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er’s mother-in-law was hea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power over the fe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ediate rel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e city came to the door to be hea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healed the sick and cast out dem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DE5-A08F-4E9A-AB6A-B67D8755B169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Jesus Tours Galilee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 Mark 1:35-39; Matt. 4:23-25; Luke 4:42-44</a:t>
            </a: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aching and Hea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were seeking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purpose was to pre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preached in synagogues throughout all Galil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r, His critics will become more vo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 healings will be criticized as “work” on the Sabbath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 miracles will be explained as Satanic p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615-4DFE-4F20-9669-C4F1301BC081}" type="slidenum">
              <a:t>6</a:t>
            </a:fld>
          </a:p>
        </p:txBody>
      </p:sp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Jesus Heals a Leper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 Mark 1:40-45; Matt. 8:2-4; Luke 5:12-16</a:t>
            </a: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itiful man came kneeling to Je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was moved with compa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xpediency of Jesus’ command for the healed man not to tell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ed to teach the soul is greater than the need to heal bo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ed to avoid being a side-sh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ed for priva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ed for room to be alone with His disciples and with G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AB7C-66F4-4B78-9BBE-7A2E3A948DCB}" type="slidenum">
              <a:t>7</a:t>
            </a:fld>
          </a:p>
        </p:txBody>
      </p:sp>
    </p:spTree>
  </p:cSld>
  <p:transition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His Power Over Paralysis</a:t>
            </a:r>
            <a:br>
              <a:rPr sz="4000"/>
            </a:b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Mark 2:1-12; Matt. 9:2-8; Luke 5:17-26</a:t>
            </a: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preached the word to a crowd in Caperna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healed a paraly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 saw the faith of those who brought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Jesus announce a man’s forgiveness of si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lawed reasoning of the Pharis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oof of Jesus’ right to exercise the divine position of forgiveness was in the miracle of healing the 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1D23-87DA-4098-BCC7-32AEF3900F42}" type="slidenum">
              <a:t>8</a:t>
            </a:fld>
          </a:p>
        </p:txBody>
      </p:sp>
    </p:spTree>
  </p:cSld>
  <p:transition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he Call of Matthew (Levi)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 Mark 2:13-17; Matt. 9:9-13; Luke 5:27-28</a:t>
            </a: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ublican (tax collector) collected tribute money for the Roman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was a despised occupation for J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thew was called to work for Je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left his job to follow Je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FA6C-3DDE-4C8E-A288-9561213F0AF2}" type="slidenum">
              <a:t>9</a:t>
            </a:fld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8:03:42Z</dcterms:created>
  <dc:creator>Terry W. Benton</dc:creator>
  <dc:description/>
  <dc:language>en-US</dc:language>
  <cp:lastModifiedBy>Frank D Vines</cp:lastModifiedBy>
  <dcterms:modified xsi:type="dcterms:W3CDTF">2006-08-06T13:23:21Z</dcterms:modified>
  <cp:revision>16</cp:revision>
  <dc:subject/>
  <dc:title>Sir, We Would See Jesus</dc:title>
</cp:coreProperties>
</file>